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985080" cy="9285120"/>
          </a:xfrm>
          <a:custGeom>
            <a:avLst/>
            <a:gdLst>
              <a:gd name="textAreaLeft" fmla="*/ 360 w 6985080"/>
              <a:gd name="textAreaRight" fmla="*/ 6984720 w 6985080"/>
              <a:gd name="textAreaTop" fmla="*/ 360 h 9285120"/>
              <a:gd name="textAreaBottom" fmla="*/ 9284760 h 9285120"/>
            </a:gdLst>
            <a:ahLst/>
            <a:rect l="textAreaLeft" t="textAreaTop" r="textAreaRight" b="textAreaBottom"/>
            <a:pathLst>
              <a:path w="21600" h="28712">
                <a:moveTo>
                  <a:pt x="4" y="0"/>
                </a:moveTo>
                <a:arcTo wR="4" hR="4" stAng="16200000" swAng="-5400000"/>
                <a:lnTo>
                  <a:pt x="0" y="28708"/>
                </a:lnTo>
                <a:arcTo wR="4" hR="4" stAng="10800000" swAng="-5400000"/>
                <a:lnTo>
                  <a:pt x="21596" y="2871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01464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head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57120" y="-1800"/>
            <a:ext cx="301500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705960"/>
            <a:ext cx="4610160" cy="345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8400" cy="4164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18200"/>
            <a:ext cx="301464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57120" y="8818200"/>
            <a:ext cx="301500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9306D-36C2-4213-98E1-52B3D75A7B6A}" type="slidenum"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81160" y="706320"/>
            <a:ext cx="461484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81160" y="706320"/>
            <a:ext cx="462276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39E3-FF05-40DF-BDBE-BAC66DAC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1888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247E-B2EC-449C-B6A2-944D4DA7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8816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D580-EBA8-4FD9-9AD9-01A07F3B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20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176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20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176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040E-CF23-4FAC-B1B4-661A54E2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41B5-5F29-42CE-90CE-76FFCBEC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1516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2B8C-43CF-4C2D-BD1E-8D312C13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1516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0829-FAFA-4558-8A65-F9E47EA5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5655-6516-40D5-97CC-632E0E60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ECCE-08A9-4453-9652-5B9CD895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130320"/>
            <a:ext cx="77594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851E-BAD5-41F7-9636-A6BC5801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DF18-4B6A-4C6F-807B-071E2864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1516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67D8-D556-4CAF-8E0E-6FAC22C7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8816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C3F9-AE07-4EDD-8DF8-6416AC28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1350-99FC-4392-BD1D-3040B6A4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1888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1ED4-36CD-457F-B51F-BE8AB693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8816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5AEA-692E-4619-AD5D-D74F1A9B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320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5176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320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5176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4349-E223-4F8E-8FBF-C1EB60A1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1516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3902-159E-4F97-AC3F-84F97BEF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F56-DE36-4C59-A1D2-E3075112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99E4-4A2D-4388-BCEF-B44B9E68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130320"/>
            <a:ext cx="77594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FCB9-DE32-4D84-8615-5275A7C7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D956-D5B1-4058-BB75-1CCE55C0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8816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8BA1-AA16-449F-9A9C-778812A1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2622-BCD6-406C-94B4-0CB4410E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1516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23280" indent="-323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15320" indent="-267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1996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56816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171840"/>
            <a:ext cx="189252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8288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1840"/>
            <a:ext cx="189216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6569F-EBE8-4456-A3AF-2963653B6FE7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144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1150560"/>
            <a:ext cx="775980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520" y="6248520"/>
            <a:ext cx="189252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288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0BE1B-70EA-40E0-9124-E2095BFAA752}" type="slidenum"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30080" indent="-2728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0" y="198360"/>
            <a:ext cx="6858000" cy="27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GMOD Meeting</a:t>
            </a:r>
            <a:br>
              <a:rPr sz="4400"/>
            </a:b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OICR</a:t>
            </a:r>
            <a:br>
              <a:rPr sz="4400"/>
            </a:b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July 16-17, 2008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Scott Ca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GMOD Project Coordinator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Cold Spring Harbor Laboratory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77480"/>
            <a:ext cx="829620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Good stuff since the last meeting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84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mod 1.0!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few Apollo releas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map 1.0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MOD summer schoo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munity Annotation System 1.0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arameciumDB annotation jambore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rthropod Genomics meet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177480"/>
            <a:ext cx="776268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What's in GMOD 1.0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8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terialized views (thanks SGN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ntology updates (thanks again SGN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ock module (thanks ParameciumDB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mproved GFF load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elete by GFF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177480"/>
            <a:ext cx="776268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What's on tap for GMOD 1.1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8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o schema changes (yet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nor Apollo compatibility stuff (although that problem's already been fixed by Ed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nor fix to GFF3 preprocessing tool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177480"/>
            <a:ext cx="776268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AS 1.1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8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r 1.1, a release of CAS-utils 0.1: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30080" indent="-27288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ollo-GBrowse CGI using a conf fi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30080" indent="-27288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 installer (MB?) to make it pret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y CAS-utils 0.1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30080" indent="-27288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mmer school convinced me both of the need and feasibil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MODWeb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176040"/>
            <a:ext cx="77612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GMOD Summer School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696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uly 11-13 at NESCent (North Carolina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5 students, 4 instructor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igh level of competence (students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vered: Chado theory and practice, GBrowse, Apollo, CMap, CA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enerally good review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177480"/>
            <a:ext cx="776268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What's up for this meeting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8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alk about core GMOD/CAS components: GBrowse, Apollo, MediaWiki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MOD help desk stuff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terMin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mon Gene Pages (again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131400"/>
            <a:ext cx="776268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Without further adieu..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